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31638-2D0A-4FBF-9888-7130B42A010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DD8F2-30F6-44D3-908E-8B161E1F3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7116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1880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52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7116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1880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520" y="1519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97116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1880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52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97116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1880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520" y="1519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8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9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737f39"/>
                </a:gs>
                <a:gs pos="100000">
                  <a:srgbClr val="48301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" name="Group 17"/>
            <p:cNvGrpSpPr/>
            <p:nvPr/>
          </p:nvGrpSpPr>
          <p:grpSpPr>
            <a:xfrm>
              <a:off x="0" y="0"/>
              <a:ext cx="1371600" cy="6858000"/>
              <a:chOff x="0" y="0"/>
              <a:chExt cx="1371600" cy="6858000"/>
            </a:xfrm>
          </p:grpSpPr>
          <p:sp>
            <p:nvSpPr>
              <p:cNvPr id="3" name="Rectangle 13"/>
              <p:cNvSpPr/>
              <p:nvPr/>
            </p:nvSpPr>
            <p:spPr>
              <a:xfrm>
                <a:off x="0" y="0"/>
                <a:ext cx="1371600" cy="6858000"/>
              </a:xfrm>
              <a:prstGeom prst="rect">
                <a:avLst/>
              </a:prstGeom>
              <a:gradFill rotWithShape="0">
                <a:gsLst>
                  <a:gs pos="0">
                    <a:srgbClr val="e3c16b"/>
                  </a:gs>
                  <a:gs pos="100000">
                    <a:srgbClr val="48301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4" name="Picture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137160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" name="Line 15"/>
              <p:cNvSpPr/>
              <p:nvPr/>
            </p:nvSpPr>
            <p:spPr>
              <a:xfrm>
                <a:off x="1371600" y="0"/>
                <a:ext cx="0" cy="6858000"/>
              </a:xfrm>
              <a:prstGeom prst="line">
                <a:avLst/>
              </a:prstGeom>
              <a:ln w="9360">
                <a:solidFill>
                  <a:srgbClr val="6845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6" name="Rectangle 10"/>
          <p:cNvSpPr/>
          <p:nvPr/>
        </p:nvSpPr>
        <p:spPr>
          <a:xfrm>
            <a:off x="1371600" y="1447920"/>
            <a:ext cx="762012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1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Rectangle 11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525a28"/>
                </a:gs>
                <a:gs pos="100000">
                  <a:srgbClr val="48301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7" name="Group 18"/>
            <p:cNvGrpSpPr/>
            <p:nvPr/>
          </p:nvGrpSpPr>
          <p:grpSpPr>
            <a:xfrm>
              <a:off x="0" y="0"/>
              <a:ext cx="1371600" cy="6858000"/>
              <a:chOff x="0" y="0"/>
              <a:chExt cx="1371600" cy="6858000"/>
            </a:xfrm>
          </p:grpSpPr>
          <p:grpSp>
            <p:nvGrpSpPr>
              <p:cNvPr id="48" name="Group 17"/>
              <p:cNvGrpSpPr/>
              <p:nvPr/>
            </p:nvGrpSpPr>
            <p:grpSpPr>
              <a:xfrm>
                <a:off x="0" y="0"/>
                <a:ext cx="1371600" cy="6858000"/>
                <a:chOff x="0" y="0"/>
                <a:chExt cx="1371600" cy="6858000"/>
              </a:xfrm>
            </p:grpSpPr>
            <p:sp>
              <p:nvSpPr>
                <p:cNvPr id="49" name="Rectangle 15"/>
                <p:cNvSpPr/>
                <p:nvPr/>
              </p:nvSpPr>
              <p:spPr>
                <a:xfrm>
                  <a:off x="0" y="0"/>
                  <a:ext cx="1371600" cy="685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e3c16b"/>
                    </a:gs>
                    <a:gs pos="100000">
                      <a:srgbClr val="483018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pic>
              <p:nvPicPr>
                <p:cNvPr id="50" name="Picture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1371600" cy="1447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1" name="Line 10"/>
              <p:cNvSpPr/>
              <p:nvPr/>
            </p:nvSpPr>
            <p:spPr>
              <a:xfrm>
                <a:off x="1371600" y="0"/>
                <a:ext cx="0" cy="6858000"/>
              </a:xfrm>
              <a:prstGeom prst="line">
                <a:avLst/>
              </a:prstGeom>
              <a:ln w="9360">
                <a:solidFill>
                  <a:srgbClr val="6845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00200" y="1676160"/>
            <a:ext cx="723888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e3c16b"/>
                </a:solidFill>
                <a:latin typeface="Times New Roman"/>
              </a:rPr>
              <a:t>Français 3</a:t>
            </a:r>
            <a:endParaRPr b="0" lang="en-US" sz="48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057400" y="289548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Le profil personn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6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1680" y="1143000"/>
            <a:ext cx="8842320" cy="5410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marL="609480" indent="0" algn="ctr"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200" spc="-1" strike="noStrike">
                <a:solidFill>
                  <a:srgbClr val="525a28"/>
                </a:solidFill>
                <a:latin typeface="Times New Roman"/>
              </a:rPr>
              <a:t>faire attention aux profs?</a:t>
            </a:r>
            <a:endParaRPr b="0" lang="en-US" sz="6200" spc="-1" strike="noStrike">
              <a:solidFill>
                <a:srgbClr val="525a28"/>
              </a:solidFill>
              <a:latin typeface="Times New Roman"/>
            </a:endParaRPr>
          </a:p>
          <a:p>
            <a:pPr marL="609480" indent="0" algn="ctr"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200" spc="-1" strike="noStrike">
                <a:solidFill>
                  <a:srgbClr val="525a28"/>
                </a:solidFill>
                <a:latin typeface="Times New Roman"/>
              </a:rPr>
              <a:t>(intonation)</a:t>
            </a:r>
            <a:endParaRPr b="0" lang="en-US" sz="6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1600200" y="5105520"/>
            <a:ext cx="685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Tu fais attention aux profs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7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680" y="1143000"/>
            <a:ext cx="8842320" cy="5410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marL="609480" indent="0" algn="ctr"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200" spc="-1" strike="noStrike">
                <a:solidFill>
                  <a:srgbClr val="525a28"/>
                </a:solidFill>
                <a:latin typeface="Times New Roman"/>
              </a:rPr>
              <a:t>avoir raison tout le temps?</a:t>
            </a:r>
            <a:endParaRPr b="0" lang="en-US" sz="6200" spc="-1" strike="noStrike">
              <a:solidFill>
                <a:srgbClr val="525a28"/>
              </a:solidFill>
              <a:latin typeface="Times New Roman"/>
            </a:endParaRPr>
          </a:p>
          <a:p>
            <a:pPr marL="609480" indent="0" algn="ctr"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200" spc="-1" strike="noStrike">
                <a:solidFill>
                  <a:srgbClr val="525a28"/>
                </a:solidFill>
                <a:latin typeface="Times New Roman"/>
              </a:rPr>
              <a:t>(inversion)</a:t>
            </a:r>
            <a:endParaRPr b="0" lang="en-US" sz="6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1600200" y="5105520"/>
            <a:ext cx="685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As-tu raison tout le temps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8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143000"/>
            <a:ext cx="8842320" cy="5410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marL="609480" indent="0" algn="ctr"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200" spc="-1" strike="noStrike">
                <a:solidFill>
                  <a:srgbClr val="525a28"/>
                </a:solidFill>
                <a:latin typeface="Times New Roman"/>
              </a:rPr>
              <a:t>faire mal aux autres?</a:t>
            </a:r>
            <a:endParaRPr b="0" lang="en-US" sz="6200" spc="-1" strike="noStrike">
              <a:solidFill>
                <a:srgbClr val="525a28"/>
              </a:solidFill>
              <a:latin typeface="Times New Roman"/>
            </a:endParaRPr>
          </a:p>
          <a:p>
            <a:pPr marL="609480" indent="0" algn="ctr"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200" spc="-1" strike="noStrike">
                <a:solidFill>
                  <a:srgbClr val="525a28"/>
                </a:solidFill>
                <a:latin typeface="Times New Roman"/>
              </a:rPr>
              <a:t>(est-ce que)</a:t>
            </a:r>
            <a:endParaRPr b="0" lang="en-US" sz="6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1600200" y="5105520"/>
            <a:ext cx="685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Est-ce que tu fais mal aux autres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Contexte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47560" y="1371600"/>
            <a:ext cx="7467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525a28"/>
                </a:solidFill>
                <a:latin typeface="Times New Roman"/>
              </a:rPr>
              <a:t>Des élèves français rendent visitent à Barlow et vous faites leur connaissance.</a:t>
            </a:r>
            <a:endParaRPr b="0" lang="en-US" sz="4000" spc="-1" strike="noStrike">
              <a:solidFill>
                <a:srgbClr val="525a28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525a28"/>
                </a:solidFill>
                <a:latin typeface="Times New Roman"/>
              </a:rPr>
              <a:t>Alors, vous aimeriez leur poser des questions sur leurs intérêts mais avant de leur parler, vous écrivez les questions.</a:t>
            </a:r>
            <a:endParaRPr b="0" lang="en-US" sz="40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Tâche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47560" y="1371600"/>
            <a:ext cx="7467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525a28"/>
                </a:solidFill>
                <a:latin typeface="Times New Roman"/>
              </a:rPr>
              <a:t>Composer des questions à leur poser</a:t>
            </a:r>
            <a:endParaRPr b="0" lang="en-US" sz="40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Modèle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0"/>
            <a:ext cx="8842320" cy="5410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marL="609480" indent="0" algn="ctr"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200" spc="-1" strike="noStrike">
                <a:solidFill>
                  <a:srgbClr val="525a28"/>
                </a:solidFill>
                <a:latin typeface="Times New Roman"/>
              </a:rPr>
              <a:t>faire de l’équitation?</a:t>
            </a:r>
            <a:endParaRPr b="0" lang="en-US" sz="6200" spc="-1" strike="noStrike">
              <a:solidFill>
                <a:srgbClr val="525a28"/>
              </a:solidFill>
              <a:latin typeface="Times New Roman"/>
            </a:endParaRPr>
          </a:p>
          <a:p>
            <a:pPr marL="609480" indent="0" algn="ctr"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200" spc="-1" strike="noStrike">
                <a:solidFill>
                  <a:srgbClr val="525a28"/>
                </a:solidFill>
                <a:latin typeface="Times New Roman"/>
              </a:rPr>
              <a:t>(intonation)</a:t>
            </a:r>
            <a:endParaRPr b="0" lang="en-US" sz="6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05" name="TextBox 1"/>
          <p:cNvSpPr/>
          <p:nvPr/>
        </p:nvSpPr>
        <p:spPr>
          <a:xfrm>
            <a:off x="1600200" y="3962520"/>
            <a:ext cx="685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Tahoma"/>
              </a:rPr>
              <a:t>Tu fais de l’équitation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ight Arrow 2"/>
          <p:cNvSpPr/>
          <p:nvPr/>
        </p:nvSpPr>
        <p:spPr>
          <a:xfrm rot="20734800">
            <a:off x="2950920" y="5106960"/>
            <a:ext cx="4343400" cy="380880"/>
          </a:xfrm>
          <a:prstGeom prst="rightArrow">
            <a:avLst>
              <a:gd name="adj1" fmla="val 50000"/>
              <a:gd name="adj2" fmla="val 49996"/>
            </a:avLst>
          </a:prstGeom>
          <a:gradFill rotWithShape="0">
            <a:gsLst>
              <a:gs pos="0">
                <a:srgbClr val="00e9a6"/>
              </a:gs>
              <a:gs pos="100000">
                <a:srgbClr val="00ad7b"/>
              </a:gs>
            </a:gsLst>
            <a:lin ang="6264000"/>
          </a:gra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Picture 3" descr="1206572345498733688johnny_automatic_NPS_map_pictographs_part_35.svg.med.png"/>
          <p:cNvPicPr/>
          <p:nvPr/>
        </p:nvPicPr>
        <p:blipFill>
          <a:blip r:embed="rId1"/>
          <a:stretch/>
        </p:blipFill>
        <p:spPr>
          <a:xfrm>
            <a:off x="0" y="25146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1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143000"/>
            <a:ext cx="8842320" cy="5410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marL="609480" indent="0" algn="ctr"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200" spc="-1" strike="noStrike">
                <a:solidFill>
                  <a:srgbClr val="525a28"/>
                </a:solidFill>
                <a:latin typeface="Times New Roman"/>
              </a:rPr>
              <a:t>avoir de la chance?</a:t>
            </a:r>
            <a:endParaRPr b="0" lang="en-US" sz="6200" spc="-1" strike="noStrike">
              <a:solidFill>
                <a:srgbClr val="525a28"/>
              </a:solidFill>
              <a:latin typeface="Times New Roman"/>
            </a:endParaRPr>
          </a:p>
          <a:p>
            <a:pPr marL="609480" indent="0" algn="ctr"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200" spc="-1" strike="noStrike">
                <a:solidFill>
                  <a:srgbClr val="525a28"/>
                </a:solidFill>
                <a:latin typeface="Times New Roman"/>
              </a:rPr>
              <a:t>(intonation)</a:t>
            </a:r>
            <a:endParaRPr b="0" lang="en-US" sz="6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10" name="TextBox 1"/>
          <p:cNvSpPr/>
          <p:nvPr/>
        </p:nvSpPr>
        <p:spPr>
          <a:xfrm>
            <a:off x="1600200" y="510552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Tu as de la chance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Picture 2" descr="four-leaf-clover.gif"/>
          <p:cNvPicPr/>
          <p:nvPr/>
        </p:nvPicPr>
        <p:blipFill>
          <a:blip r:embed="rId1"/>
          <a:stretch/>
        </p:blipFill>
        <p:spPr>
          <a:xfrm>
            <a:off x="3200400" y="28440"/>
            <a:ext cx="291924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2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143000"/>
            <a:ext cx="8842320" cy="5410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marL="609480" indent="0" algn="ctr"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200" spc="-1" strike="noStrike">
                <a:solidFill>
                  <a:srgbClr val="525a28"/>
                </a:solidFill>
                <a:latin typeface="Times New Roman"/>
              </a:rPr>
              <a:t>faire la fête?</a:t>
            </a:r>
            <a:endParaRPr b="0" lang="en-US" sz="6200" spc="-1" strike="noStrike">
              <a:solidFill>
                <a:srgbClr val="525a28"/>
              </a:solidFill>
              <a:latin typeface="Times New Roman"/>
            </a:endParaRPr>
          </a:p>
          <a:p>
            <a:pPr marL="609480" indent="0" algn="ctr"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200" spc="-1" strike="noStrike">
                <a:solidFill>
                  <a:srgbClr val="525a28"/>
                </a:solidFill>
                <a:latin typeface="Times New Roman"/>
              </a:rPr>
              <a:t>(n’est-ce pas)</a:t>
            </a:r>
            <a:endParaRPr b="0" lang="en-US" sz="6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1447920" y="5105520"/>
            <a:ext cx="7391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Tu fais la fête, n’est-ce pas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1" descr="fete.png"/>
          <p:cNvPicPr/>
          <p:nvPr/>
        </p:nvPicPr>
        <p:blipFill>
          <a:blip r:embed="rId1"/>
          <a:stretch/>
        </p:blipFill>
        <p:spPr>
          <a:xfrm>
            <a:off x="2666880" y="-152280"/>
            <a:ext cx="3962520" cy="29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3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9528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marL="609480" indent="0" algn="ctr"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200" spc="-1" strike="noStrike">
                <a:solidFill>
                  <a:srgbClr val="525a28"/>
                </a:solidFill>
                <a:latin typeface="Times New Roman"/>
              </a:rPr>
              <a:t>avoir du courage dans le noir?</a:t>
            </a:r>
            <a:endParaRPr b="0" lang="en-US" sz="6200" spc="-1" strike="noStrike">
              <a:solidFill>
                <a:srgbClr val="525a28"/>
              </a:solidFill>
              <a:latin typeface="Times New Roman"/>
            </a:endParaRPr>
          </a:p>
          <a:p>
            <a:pPr marL="609480" indent="0" algn="ctr"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200" spc="-1" strike="noStrike">
                <a:solidFill>
                  <a:srgbClr val="525a28"/>
                </a:solidFill>
                <a:latin typeface="Times New Roman"/>
              </a:rPr>
              <a:t>(inversion)</a:t>
            </a:r>
            <a:endParaRPr b="0" lang="en-US" sz="6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1371600" y="5257800"/>
            <a:ext cx="762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As-tu du courage dans le noir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Picture 1" descr="qui a peur du noir.JPG"/>
          <p:cNvPicPr/>
          <p:nvPr/>
        </p:nvPicPr>
        <p:blipFill>
          <a:blip r:embed="rId1"/>
          <a:stretch/>
        </p:blipFill>
        <p:spPr>
          <a:xfrm>
            <a:off x="3722760" y="-2095560"/>
            <a:ext cx="298296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4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143000"/>
            <a:ext cx="8842320" cy="5410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marL="609480" indent="0" algn="ctr"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200" spc="-1" strike="noStrike">
                <a:solidFill>
                  <a:srgbClr val="525a28"/>
                </a:solidFill>
                <a:latin typeface="Times New Roman"/>
              </a:rPr>
              <a:t>faire des projets pour le weekend?</a:t>
            </a:r>
            <a:endParaRPr b="0" lang="en-US" sz="6200" spc="-1" strike="noStrike">
              <a:solidFill>
                <a:srgbClr val="525a28"/>
              </a:solidFill>
              <a:latin typeface="Times New Roman"/>
            </a:endParaRPr>
          </a:p>
          <a:p>
            <a:pPr marL="609480" indent="0" algn="ctr"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200" spc="-1" strike="noStrike">
                <a:solidFill>
                  <a:srgbClr val="525a28"/>
                </a:solidFill>
                <a:latin typeface="Times New Roman"/>
              </a:rPr>
              <a:t>(est-ce que)</a:t>
            </a:r>
            <a:endParaRPr b="0" lang="en-US" sz="6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1371600" y="5326200"/>
            <a:ext cx="685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Est-ce que tu fais des projets pour le weekend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5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143000"/>
            <a:ext cx="8842320" cy="5410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marL="609480" indent="0" algn="ctr"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200" spc="-1" strike="noStrike">
                <a:solidFill>
                  <a:srgbClr val="525a28"/>
                </a:solidFill>
                <a:latin typeface="Times New Roman"/>
              </a:rPr>
              <a:t>avoir de la patience?</a:t>
            </a:r>
            <a:endParaRPr b="0" lang="en-US" sz="6200" spc="-1" strike="noStrike">
              <a:solidFill>
                <a:srgbClr val="525a28"/>
              </a:solidFill>
              <a:latin typeface="Times New Roman"/>
            </a:endParaRPr>
          </a:p>
          <a:p>
            <a:pPr marL="609480" indent="0" algn="ctr"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200" spc="-1" strike="noStrike">
                <a:solidFill>
                  <a:srgbClr val="525a28"/>
                </a:solidFill>
                <a:latin typeface="Times New Roman"/>
              </a:rPr>
              <a:t>(n’est-ce pas)</a:t>
            </a:r>
            <a:endParaRPr b="0" lang="en-US" sz="6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1600200" y="5105520"/>
            <a:ext cx="685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Tu as de la patience, n’est-ce pas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0:08:49Z</dcterms:created>
  <dc:creator>Mr. Smith</dc:creator>
  <dc:description/>
  <dc:language>en-US</dc:language>
  <cp:lastModifiedBy>Edouard Smith</cp:lastModifiedBy>
  <dcterms:modified xsi:type="dcterms:W3CDTF">2014-10-08T00:06:40Z</dcterms:modified>
  <cp:revision>106</cp:revision>
  <dc:subject/>
  <dc:title>Allez, viens! – Level 2</dc:title>
</cp:coreProperties>
</file>